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1.png" ContentType="image/png"/>
  <Override PartName="/ppt/media/image19.jpeg" ContentType="image/jpeg"/>
  <Override PartName="/ppt/media/image10.wmf" ContentType="image/x-wmf"/>
  <Override PartName="/ppt/media/image4.jpeg" ContentType="image/jpeg"/>
  <Override PartName="/ppt/media/image25.png" ContentType="image/png"/>
  <Override PartName="/ppt/media/image7.jpeg" ContentType="image/jpeg"/>
  <Override PartName="/ppt/media/image6.png" ContentType="image/png"/>
  <Override PartName="/ppt/media/image9.wmf" ContentType="image/x-wmf"/>
  <Override PartName="/ppt/media/image5.jpeg" ContentType="image/jpeg"/>
  <Override PartName="/ppt/media/image24.png" ContentType="image/png"/>
  <Override PartName="/ppt/media/image18.jpeg" ContentType="image/jpeg"/>
  <Override PartName="/ppt/media/image22.png" ContentType="image/png"/>
  <Override PartName="/ppt/media/image1.jpeg" ContentType="image/jpeg"/>
  <Override PartName="/ppt/media/image21.png" ContentType="image/png"/>
  <Override PartName="/ppt/media/image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wmf" ContentType="image/x-wmf"/>
  <Override PartName="/ppt/media/image3.wmf" ContentType="image/x-wmf"/>
  <Override PartName="/ppt/media/image15.jpeg" ContentType="image/jpeg"/>
  <Override PartName="/ppt/media/image13.jpeg" ContentType="image/jpeg"/>
  <Override PartName="/ppt/media/image2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AutoShape 1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AutoShape 2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3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AutoShape 6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AutoShape 7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3589200" y="9459720"/>
            <a:ext cx="29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4/</a:t>
            </a:r>
            <a:fld id="{616E4EA0-7F88-4ABE-9A21-4E7001A6046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914040" y="4724280"/>
            <a:ext cx="494676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ldImg"/>
          </p:nvPr>
        </p:nvSpPr>
        <p:spPr>
          <a:xfrm>
            <a:off x="894960" y="752400"/>
            <a:ext cx="4946760" cy="37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move the sl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body"/>
          </p:nvPr>
        </p:nvSpPr>
        <p:spPr>
          <a:xfrm>
            <a:off x="914400" y="4719240"/>
            <a:ext cx="4951440" cy="445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2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body"/>
          </p:nvPr>
        </p:nvSpPr>
        <p:spPr>
          <a:xfrm>
            <a:off x="914400" y="4719240"/>
            <a:ext cx="4951440" cy="445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2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3756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37720" y="3939480"/>
            <a:ext cx="783756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7720" y="393948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53880" y="393948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88040" y="167652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38000" y="167652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37720" y="393948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88040" y="393948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38000" y="393948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37720" y="1676520"/>
            <a:ext cx="783756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3756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837720" y="380880"/>
            <a:ext cx="776124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37720" y="393948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53880" y="393948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7720" y="3939480"/>
            <a:ext cx="783756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7720" y="1676520"/>
            <a:ext cx="783756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6960" y="6246720"/>
            <a:ext cx="289548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Bitstream Vera Sans"/>
              </a:rPr>
              <a:t>Sissejuhatus infotehnoloogiasse</a:t>
            </a: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iistvara ja tarkvar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Riistvara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üüsilised, käegakatsutavad osad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äited: klaviatuur, monitor, integraalskeemid jm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Tarkvara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grammid ja andme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gramm on jada instruktsioon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6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97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304920" y="2438280"/>
            <a:ext cx="1143000" cy="954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"/>
          <p:cNvPicPr/>
          <p:nvPr/>
        </p:nvPicPr>
        <p:blipFill>
          <a:blip r:embed="rId2"/>
          <a:stretch/>
        </p:blipFill>
        <p:spPr>
          <a:xfrm>
            <a:off x="7391520" y="4191120"/>
            <a:ext cx="1357200" cy="1600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lgoritm ja programm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lgoritm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n täpne samm-sammuline, kuid mitte tingimata formaalne juhend millegi tegemiseks. Näited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oiduretsept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Juhend ruutvõrrandi lahendamiseks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lgoritmiline probleem -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bleem, mille lahenduse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aab kirja panna täidetavate juhendite loetelun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rogramm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n formaalses, üheselt mõistetavas keeles kirja pandud algoritm. Arvutid suudavad täita ainult programme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3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104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naloog- ja digitaalsüsteem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146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46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4640" indent="-3114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naloogsüsteem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87960" indent="-258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ndmeid salvestatakse (peegeldatakse) proportsionaalselt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87960" indent="-258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äit: termomeeter, vinüülplaat, foto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46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46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4640" indent="-3114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Digitaalsüsteem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87960" indent="-258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(pidevad) andmed lõhutakse üksikuteks tükkideks, mis salvestatakse eraldi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87960" indent="-258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äit: CD, arvutiprogramm, kiri tähtede ja bittiden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879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46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4640" indent="-3114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Ühelt teisele: digitaliseerimin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8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109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Vinüülplaat: info analoogkujul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13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114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16" name="Picture 6" descr=""/>
          <p:cNvPicPr/>
          <p:nvPr/>
        </p:nvPicPr>
        <p:blipFill>
          <a:blip r:embed="rId1"/>
          <a:stretch/>
        </p:blipFill>
        <p:spPr>
          <a:xfrm>
            <a:off x="3959280" y="3060720"/>
            <a:ext cx="5018040" cy="3213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"/>
          <p:cNvPicPr/>
          <p:nvPr/>
        </p:nvPicPr>
        <p:blipFill>
          <a:blip r:embed="rId2"/>
          <a:stretch/>
        </p:blipFill>
        <p:spPr>
          <a:xfrm>
            <a:off x="539640" y="720720"/>
            <a:ext cx="4478400" cy="2879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Digitaliseerim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20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121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1079640" y="1079640"/>
            <a:ext cx="7200720" cy="5040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Digitaalse info salvestam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26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127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29" name="Picture 6" descr=""/>
          <p:cNvPicPr/>
          <p:nvPr/>
        </p:nvPicPr>
        <p:blipFill>
          <a:blip r:embed="rId1"/>
          <a:stretch/>
        </p:blipFill>
        <p:spPr>
          <a:xfrm>
            <a:off x="463680" y="720720"/>
            <a:ext cx="3676680" cy="35863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"/>
          <p:cNvPicPr/>
          <p:nvPr/>
        </p:nvPicPr>
        <p:blipFill>
          <a:blip r:embed="rId2"/>
          <a:stretch/>
        </p:blipFill>
        <p:spPr>
          <a:xfrm>
            <a:off x="3105000" y="2700360"/>
            <a:ext cx="5715000" cy="3543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vuti ehit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õhiprotsessor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- teeb pea kogu töö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õhimälu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- hoiab aktiivses kasutuses olevaid programme ja andmei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Välismälu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- pikaajaliseks säilitamiseks (kõvaketas, flopid jne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Välisseadmed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- monitor, klaviatuur jn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33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134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36" name="Picture 6" descr=""/>
          <p:cNvPicPr/>
          <p:nvPr/>
        </p:nvPicPr>
        <p:blipFill>
          <a:blip r:embed="rId1"/>
          <a:stretch/>
        </p:blipFill>
        <p:spPr>
          <a:xfrm>
            <a:off x="5364000" y="2895480"/>
            <a:ext cx="2865600" cy="2997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"/>
          <p:cNvPicPr/>
          <p:nvPr/>
        </p:nvPicPr>
        <p:blipFill>
          <a:blip r:embed="rId2"/>
          <a:stretch/>
        </p:blipFill>
        <p:spPr>
          <a:xfrm>
            <a:off x="990720" y="4105440"/>
            <a:ext cx="2514600" cy="1809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õhiprotsessor (CPU) ja mälu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848720" cy="3657600"/>
          </a:xfrm>
          <a:prstGeom prst="rect">
            <a:avLst/>
          </a:prstGeom>
          <a:ln w="0">
            <a:noFill/>
          </a:ln>
        </p:spPr>
      </p:pic>
      <p:grpSp>
        <p:nvGrpSpPr>
          <p:cNvPr id="140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141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PU ja muud seadm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grpSp>
        <p:nvGrpSpPr>
          <p:cNvPr id="144" name="Group 2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145" name="Line 3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Line 4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848720" cy="3733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18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Mis on ja mis ei ole arvuti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04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t-EE" sz="1800" spc="-1" strike="noStrike">
                <a:solidFill>
                  <a:srgbClr val="000000"/>
                </a:solidFill>
                <a:latin typeface="Bitstream Vera Sans"/>
              </a:rPr>
              <a:t>Wikipedia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4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A computer is a general purpose device that can be programmed to carry out a set of arithmetic or logical operations. Since a sequence of operations can be readily changed, the computer can solve more than one kind of problem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4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4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t-EE" sz="1800" spc="-1" strike="noStrike">
                <a:solidFill>
                  <a:srgbClr val="000000"/>
                </a:solidFill>
                <a:latin typeface="Bitstream Vera Sans"/>
              </a:rPr>
              <a:t>Google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4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n electronic device which is capable of receiving information (data) in a particular form and of performing a sequence of operations in accordance with a predetermined but variable set of procedural instructions (program) to produce a result in the form of information or signals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4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4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t-EE" sz="1800" spc="-1" strike="noStrike">
                <a:solidFill>
                  <a:srgbClr val="000000"/>
                </a:solidFill>
                <a:latin typeface="Bitstream Vera Sans"/>
              </a:rPr>
              <a:t>One course in </a:t>
            </a:r>
            <a:r>
              <a:rPr b="1" i="1" lang="en-GB" sz="1800" spc="-1" strike="noStrike">
                <a:solidFill>
                  <a:srgbClr val="000000"/>
                </a:solidFill>
                <a:latin typeface="Bitstream Vera Sans"/>
              </a:rPr>
              <a:t>Univ. of Virginia</a:t>
            </a:r>
            <a:r>
              <a:rPr b="1" i="1" lang="et-EE" sz="18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4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 computer is a device which takes data in one form, uses it, and produces a different form of information which is related to (but not the same as) the original data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4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engu sisu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66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ursuse eesmär</a:t>
            </a: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gid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Hindamine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Loengukava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Kirjandus, lisamaterjalid, viited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Põhimõisted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Erinevad koolkonnad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5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56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he Many Kinds of Comput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he three major comparisons of computers are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lectronic computers versus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m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chanical computer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General-purpose versus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s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ecial-purpose computer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igital versus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alog computer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Üks algallikatest: Remingtoni revolve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1"/>
          <a:stretch/>
        </p:blipFill>
        <p:spPr>
          <a:xfrm>
            <a:off x="1557360" y="1797120"/>
            <a:ext cx="6132600" cy="3316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üssitootmise tehnoloogia võimaldas: Remingtoni kirjutusmasi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1"/>
          <a:stretch/>
        </p:blipFill>
        <p:spPr>
          <a:xfrm>
            <a:off x="1968480" y="1346040"/>
            <a:ext cx="5308560" cy="4216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Zuse mehhaaniline programmeeritav arvut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1233360" y="1440000"/>
            <a:ext cx="7407360" cy="4757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simene mikroprose: intel 4004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2700360" y="1079640"/>
            <a:ext cx="3452760" cy="5219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8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uring machine: lihtne teoreetiline masi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lan Turingi idee, milline võiks olla lihtne universaalne arvuti: suudaks arvutada/järeldada kõike!!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uringi tees: kõike, mida üldse saab mingi masinaga arvutada/järeldada, saab ka Turingi masinaga arvutad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Turing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ttp://en.wikipedia.org/wiki/Alan_Turing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ttp://www.radiolab.org/story/193037-turing-problem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/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5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67" name="Picture 7" descr="http://math2033.uark.edu/wiki/images/6/6d/Turing-machine.jpg"/>
          <p:cNvPicPr/>
          <p:nvPr/>
        </p:nvPicPr>
        <p:blipFill>
          <a:blip r:embed="rId1"/>
          <a:stretch/>
        </p:blipFill>
        <p:spPr>
          <a:xfrm>
            <a:off x="1619280" y="380880"/>
            <a:ext cx="5943600" cy="285300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1"/>
          <p:cNvSpPr/>
          <p:nvPr/>
        </p:nvSpPr>
        <p:spPr>
          <a:xfrm>
            <a:off x="1523880" y="5867280"/>
            <a:ext cx="685800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Verdana"/>
              </a:rPr>
              <a:t>http://www.youtube.com/watch?v=cYw2ewoO6c4&amp;NR=1https://www.youtube.com/watch?v=40DkJ9vt5C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Verdana"/>
              </a:rPr>
              <a:t>https://www.youtube.com/watch?v=ivPv_kaYuw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Picture 9" descr="http://www.legoturingmachine.org/images/global.jpg"/>
          <p:cNvPicPr/>
          <p:nvPr/>
        </p:nvPicPr>
        <p:blipFill>
          <a:blip r:embed="rId2"/>
          <a:stretch/>
        </p:blipFill>
        <p:spPr>
          <a:xfrm>
            <a:off x="380880" y="3294000"/>
            <a:ext cx="3305160" cy="24796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1" descr="https://encrypted-tbn0.gstatic.com/images?q=tbn:ANd9GcTISCKcQXibQWulTUd-DSxwFv_Q0_P-PY-bKrxcnjStKkZD02JohRxYWmUI"/>
          <p:cNvPicPr/>
          <p:nvPr/>
        </p:nvPicPr>
        <p:blipFill>
          <a:blip r:embed="rId3"/>
          <a:stretch/>
        </p:blipFill>
        <p:spPr>
          <a:xfrm>
            <a:off x="4519440" y="3733920"/>
            <a:ext cx="3876840" cy="1752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ida saab üldse mehaaniliselt arvutada/järeldada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elgub, et kõiki täpselt formuleeritud, selgeid, algoritmilisi probleeme ei saa garanteeritult algoritmiga lahendad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s alternatiivid sel juhul on?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9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ida saab üldse mehaaniliselt arvutada/järeldada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lternatiiv ük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epime sellega, et mõnes olukorras ei õnnestu vastust leid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6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ida saab üldse mehaaniliselt arvutada/järeldada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lternatiiv kak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alime vahel juhuslikult, ehk: teeme vahel vigu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3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rsuse eesmärk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nda kokkusurutud ülevaade infotehnoloogiast tervikun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nda ajalooline ülevaade IT teooria, tehnoloogia ja äri arengus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utvustada edaspidiseid teemasid/kursusi stuudiumi vältel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0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61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erfektne arvutusmasin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79" name="Picture 3" descr=""/>
          <p:cNvPicPr/>
          <p:nvPr/>
        </p:nvPicPr>
        <p:blipFill>
          <a:blip r:embed="rId1"/>
          <a:stretch/>
        </p:blipFill>
        <p:spPr>
          <a:xfrm>
            <a:off x="2160720" y="1619280"/>
            <a:ext cx="4319280" cy="4578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0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What Is Information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he five types of information that are the only types the computer commonly manipulate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isual (pictures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umeric (numbers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haracter (text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udio (sound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structions (programs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What Is Information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Before the computer can use any type of information, it must be stored in the computer’s memory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roblem: How is information stored within the computer?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formation is stored in numerical form within the computer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odern computers work in a system of numbers called binary number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What Is Information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Binary number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imilar to familiar decimal system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Uses only two symbols: 0 and 1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e choice of using binary numbers is dictated by cost and reliability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Binary circuit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lectronic circuits are cheapest and most reliable if they only assume two states or conditions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ese binary circuits have only two states, ON or OFF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ation of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51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Binary numbers use only two symbols: 0 and 1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ow can more than two possibilities be represented?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 three light system can have up to eight combinations. Each combination can represent a code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4835520" y="1898640"/>
            <a:ext cx="3851280" cy="3897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ation of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Binary equivalents of the numerals 0 to 7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91" name="Group 3"/>
          <p:cNvGrpSpPr/>
          <p:nvPr/>
        </p:nvGrpSpPr>
        <p:grpSpPr>
          <a:xfrm>
            <a:off x="2496240" y="2556000"/>
            <a:ext cx="1553400" cy="3386520"/>
            <a:chOff x="2496240" y="2556000"/>
            <a:chExt cx="1553400" cy="3386520"/>
          </a:xfrm>
        </p:grpSpPr>
        <p:sp>
          <p:nvSpPr>
            <p:cNvPr id="192" name="AutoShape 4"/>
            <p:cNvSpPr/>
            <p:nvPr/>
          </p:nvSpPr>
          <p:spPr>
            <a:xfrm>
              <a:off x="2498760" y="2556000"/>
              <a:ext cx="1550880" cy="3373200"/>
            </a:xfrm>
            <a:custGeom>
              <a:avLst/>
              <a:gdLst>
                <a:gd name="textAreaLeft" fmla="*/ 360 w 1550880"/>
                <a:gd name="textAreaRight" fmla="*/ 1550520 w 1550880"/>
                <a:gd name="textAreaTop" fmla="*/ 360 h 3373200"/>
                <a:gd name="textAreaBottom" fmla="*/ 3372840 h 3373200"/>
              </a:gdLst>
              <a:ahLst/>
              <a:rect l="textAreaLeft" t="textAreaTop" r="textAreaRight" b="textAreaBottom"/>
              <a:pathLst>
                <a:path w="21600" h="46975">
                  <a:moveTo>
                    <a:pt x="22" y="0"/>
                  </a:moveTo>
                  <a:arcTo wR="22" hR="22" stAng="16200000" swAng="-5400000"/>
                  <a:lnTo>
                    <a:pt x="0" y="46953"/>
                  </a:lnTo>
                  <a:arcTo wR="22" hR="22" stAng="10800000" swAng="-5400000"/>
                  <a:lnTo>
                    <a:pt x="21578" y="46975"/>
                  </a:lnTo>
                  <a:arcTo wR="22" hR="22" stAng="5400000" swAng="-5400000"/>
                  <a:lnTo>
                    <a:pt x="21600" y="22"/>
                  </a:lnTo>
                  <a:arcTo wR="22" hR="22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3" name="Group 5"/>
            <p:cNvGrpSpPr/>
            <p:nvPr/>
          </p:nvGrpSpPr>
          <p:grpSpPr>
            <a:xfrm>
              <a:off x="2496240" y="2556000"/>
              <a:ext cx="1553400" cy="3386520"/>
              <a:chOff x="2496240" y="2556000"/>
              <a:chExt cx="1553400" cy="3386520"/>
            </a:xfrm>
          </p:grpSpPr>
          <p:sp>
            <p:nvSpPr>
              <p:cNvPr id="194" name="AutoShape 6"/>
              <p:cNvSpPr/>
              <p:nvPr/>
            </p:nvSpPr>
            <p:spPr>
              <a:xfrm>
                <a:off x="2498760" y="2556000"/>
                <a:ext cx="1550880" cy="3373200"/>
              </a:xfrm>
              <a:custGeom>
                <a:avLst/>
                <a:gdLst>
                  <a:gd name="textAreaLeft" fmla="*/ 360 w 1550880"/>
                  <a:gd name="textAreaRight" fmla="*/ 1550520 w 1550880"/>
                  <a:gd name="textAreaTop" fmla="*/ 360 h 3373200"/>
                  <a:gd name="textAreaBottom" fmla="*/ 3372840 h 3373200"/>
                </a:gdLst>
                <a:ahLst/>
                <a:rect l="textAreaLeft" t="textAreaTop" r="textAreaRight" b="textAreaBottom"/>
                <a:pathLst>
                  <a:path w="21600" h="46975">
                    <a:moveTo>
                      <a:pt x="22" y="0"/>
                    </a:moveTo>
                    <a:arcTo wR="22" hR="22" stAng="16200000" swAng="-5400000"/>
                    <a:lnTo>
                      <a:pt x="0" y="46953"/>
                    </a:lnTo>
                    <a:arcTo wR="22" hR="22" stAng="10800000" swAng="-5400000"/>
                    <a:lnTo>
                      <a:pt x="21578" y="46975"/>
                    </a:lnTo>
                    <a:arcTo wR="22" hR="22" stAng="5400000" swAng="-5400000"/>
                    <a:lnTo>
                      <a:pt x="21600" y="22"/>
                    </a:lnTo>
                    <a:arcTo wR="22" hR="22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AutoShape 7"/>
              <p:cNvSpPr/>
              <p:nvPr/>
            </p:nvSpPr>
            <p:spPr>
              <a:xfrm>
                <a:off x="2496240" y="2556000"/>
                <a:ext cx="1553040" cy="3386520"/>
              </a:xfrm>
              <a:custGeom>
                <a:avLst/>
                <a:gdLst>
                  <a:gd name="textAreaLeft" fmla="*/ 360 w 1553040"/>
                  <a:gd name="textAreaRight" fmla="*/ 1552680 w 1553040"/>
                  <a:gd name="textAreaTop" fmla="*/ 360 h 3386520"/>
                  <a:gd name="textAreaBottom" fmla="*/ 3386160 h 3386520"/>
                </a:gdLst>
                <a:ahLst/>
                <a:rect l="textAreaLeft" t="textAreaTop" r="textAreaRight" b="textAreaBottom"/>
                <a:pathLst>
                  <a:path w="21600" h="47095">
                    <a:moveTo>
                      <a:pt x="22" y="0"/>
                    </a:moveTo>
                    <a:arcTo wR="22" hR="22" stAng="16200000" swAng="-5400000"/>
                    <a:lnTo>
                      <a:pt x="0" y="47073"/>
                    </a:lnTo>
                    <a:arcTo wR="22" hR="22" stAng="10800000" swAng="-5400000"/>
                    <a:lnTo>
                      <a:pt x="21578" y="47095"/>
                    </a:lnTo>
                    <a:arcTo wR="22" hR="22" stAng="5400000" swAng="-5400000"/>
                    <a:lnTo>
                      <a:pt x="21600" y="22"/>
                    </a:lnTo>
                    <a:arcTo wR="22" hR="22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00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00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01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01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0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0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1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1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6" name="Group 8"/>
          <p:cNvGrpSpPr/>
          <p:nvPr/>
        </p:nvGrpSpPr>
        <p:grpSpPr>
          <a:xfrm>
            <a:off x="4720680" y="3809880"/>
            <a:ext cx="2208240" cy="460440"/>
            <a:chOff x="4720680" y="3809880"/>
            <a:chExt cx="2208240" cy="460440"/>
          </a:xfrm>
        </p:grpSpPr>
        <p:sp>
          <p:nvSpPr>
            <p:cNvPr id="197" name="AutoShape 9"/>
            <p:cNvSpPr/>
            <p:nvPr/>
          </p:nvSpPr>
          <p:spPr>
            <a:xfrm>
              <a:off x="4724280" y="3809880"/>
              <a:ext cx="2200320" cy="45252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8" name="Group 10"/>
            <p:cNvGrpSpPr/>
            <p:nvPr/>
          </p:nvGrpSpPr>
          <p:grpSpPr>
            <a:xfrm>
              <a:off x="4720680" y="3809880"/>
              <a:ext cx="2208240" cy="460440"/>
              <a:chOff x="4720680" y="3809880"/>
              <a:chExt cx="2208240" cy="460440"/>
            </a:xfrm>
          </p:grpSpPr>
          <p:sp>
            <p:nvSpPr>
              <p:cNvPr id="199" name="AutoShape 11"/>
              <p:cNvSpPr/>
              <p:nvPr/>
            </p:nvSpPr>
            <p:spPr>
              <a:xfrm>
                <a:off x="4724280" y="3809880"/>
                <a:ext cx="2200320" cy="452520"/>
              </a:xfrm>
              <a:prstGeom prst="roundRect">
                <a:avLst>
                  <a:gd name="adj" fmla="val 3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AutoShape 12"/>
              <p:cNvSpPr/>
              <p:nvPr/>
            </p:nvSpPr>
            <p:spPr>
              <a:xfrm>
                <a:off x="4720680" y="3809880"/>
                <a:ext cx="2208240" cy="460440"/>
              </a:xfrm>
              <a:prstGeom prst="roundRect">
                <a:avLst>
                  <a:gd name="adj" fmla="val 3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Binary numerals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1" name="Freeform 13"/>
          <p:cNvSpPr/>
          <p:nvPr/>
        </p:nvSpPr>
        <p:spPr>
          <a:xfrm>
            <a:off x="4114800" y="2666880"/>
            <a:ext cx="380880" cy="2820960"/>
          </a:xfrm>
          <a:custGeom>
            <a:avLst/>
            <a:gdLst/>
            <a:ahLst/>
            <a:rect l="l" t="t" r="r" b="b"/>
            <a:pathLst>
              <a:path w="1059" h="7836">
                <a:moveTo>
                  <a:pt x="0" y="0"/>
                </a:moveTo>
                <a:cubicBezTo>
                  <a:pt x="263" y="0"/>
                  <a:pt x="528" y="326"/>
                  <a:pt x="528" y="652"/>
                </a:cubicBezTo>
                <a:lnTo>
                  <a:pt x="528" y="3264"/>
                </a:lnTo>
                <a:cubicBezTo>
                  <a:pt x="528" y="3591"/>
                  <a:pt x="793" y="3917"/>
                  <a:pt x="1058" y="3917"/>
                </a:cubicBezTo>
                <a:cubicBezTo>
                  <a:pt x="793" y="3917"/>
                  <a:pt x="528" y="4243"/>
                  <a:pt x="528" y="4570"/>
                </a:cubicBezTo>
                <a:lnTo>
                  <a:pt x="528" y="7182"/>
                </a:lnTo>
                <a:cubicBezTo>
                  <a:pt x="528" y="7508"/>
                  <a:pt x="263" y="7835"/>
                  <a:pt x="0" y="783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ation of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ecimal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system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04" name="Group 3"/>
          <p:cNvGrpSpPr/>
          <p:nvPr/>
        </p:nvGrpSpPr>
        <p:grpSpPr>
          <a:xfrm>
            <a:off x="990720" y="3352680"/>
            <a:ext cx="7678440" cy="1191960"/>
            <a:chOff x="990720" y="3352680"/>
            <a:chExt cx="7678440" cy="1191960"/>
          </a:xfrm>
        </p:grpSpPr>
        <p:sp>
          <p:nvSpPr>
            <p:cNvPr id="205" name="AutoShape 4"/>
            <p:cNvSpPr/>
            <p:nvPr/>
          </p:nvSpPr>
          <p:spPr>
            <a:xfrm>
              <a:off x="990720" y="3352680"/>
              <a:ext cx="7678440" cy="1182960"/>
            </a:xfrm>
            <a:prstGeom prst="roundRect">
              <a:avLst>
                <a:gd name="adj" fmla="val 13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6" name="Group 5"/>
            <p:cNvGrpSpPr/>
            <p:nvPr/>
          </p:nvGrpSpPr>
          <p:grpSpPr>
            <a:xfrm>
              <a:off x="990720" y="3352680"/>
              <a:ext cx="7678440" cy="1191960"/>
              <a:chOff x="990720" y="3352680"/>
              <a:chExt cx="7678440" cy="1191960"/>
            </a:xfrm>
          </p:grpSpPr>
          <p:sp>
            <p:nvSpPr>
              <p:cNvPr id="207" name="AutoShape 6"/>
              <p:cNvSpPr/>
              <p:nvPr/>
            </p:nvSpPr>
            <p:spPr>
              <a:xfrm>
                <a:off x="990720" y="3352680"/>
                <a:ext cx="7678440" cy="1182960"/>
              </a:xfrm>
              <a:prstGeom prst="roundRect">
                <a:avLst>
                  <a:gd name="adj" fmla="val 13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AutoShape 7"/>
              <p:cNvSpPr/>
              <p:nvPr/>
            </p:nvSpPr>
            <p:spPr>
              <a:xfrm>
                <a:off x="991800" y="3352680"/>
                <a:ext cx="7639920" cy="1191960"/>
              </a:xfrm>
              <a:prstGeom prst="roundRect">
                <a:avLst>
                  <a:gd name="adj" fmla="val 13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312 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3      1       2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(3x 10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2 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) + (1x10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) + (2x10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)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(3x100) + (1x10) + (2x1)</a:t>
                </a:r>
                <a:r>
                  <a:rPr b="0" lang="ar-SA" sz="2400" spc="-1" strike="noStrike">
                    <a:solidFill>
                      <a:srgbClr val="000000"/>
                    </a:solidFill>
                    <a:latin typeface="Times New Roman"/>
                  </a:rPr>
                  <a:t>‏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   300     +    10    +     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9" name="Group 8"/>
          <p:cNvGrpSpPr/>
          <p:nvPr/>
        </p:nvGrpSpPr>
        <p:grpSpPr>
          <a:xfrm>
            <a:off x="2662920" y="2514600"/>
            <a:ext cx="1910160" cy="460440"/>
            <a:chOff x="2662920" y="2514600"/>
            <a:chExt cx="1910160" cy="460440"/>
          </a:xfrm>
        </p:grpSpPr>
        <p:sp>
          <p:nvSpPr>
            <p:cNvPr id="210" name="AutoShape 9"/>
            <p:cNvSpPr/>
            <p:nvPr/>
          </p:nvSpPr>
          <p:spPr>
            <a:xfrm>
              <a:off x="2666520" y="2514600"/>
              <a:ext cx="1906560" cy="45252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1" name="Group 10"/>
            <p:cNvGrpSpPr/>
            <p:nvPr/>
          </p:nvGrpSpPr>
          <p:grpSpPr>
            <a:xfrm>
              <a:off x="2662920" y="2514600"/>
              <a:ext cx="1909800" cy="460440"/>
              <a:chOff x="2662920" y="2514600"/>
              <a:chExt cx="1909800" cy="460440"/>
            </a:xfrm>
          </p:grpSpPr>
          <p:sp>
            <p:nvSpPr>
              <p:cNvPr id="212" name="AutoShape 11"/>
              <p:cNvSpPr/>
              <p:nvPr/>
            </p:nvSpPr>
            <p:spPr>
              <a:xfrm>
                <a:off x="2666520" y="2514600"/>
                <a:ext cx="1904760" cy="452520"/>
              </a:xfrm>
              <a:prstGeom prst="roundRect">
                <a:avLst>
                  <a:gd name="adj" fmla="val 3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AutoShape 12"/>
              <p:cNvSpPr/>
              <p:nvPr/>
            </p:nvSpPr>
            <p:spPr>
              <a:xfrm>
                <a:off x="2662920" y="2514600"/>
                <a:ext cx="1909800" cy="460440"/>
              </a:xfrm>
              <a:prstGeom prst="roundRect">
                <a:avLst>
                  <a:gd name="adj" fmla="val 3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00s   10s   1s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4" name="Line 13"/>
          <p:cNvSpPr/>
          <p:nvPr/>
        </p:nvSpPr>
        <p:spPr>
          <a:xfrm>
            <a:off x="3048120" y="29718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Line 14"/>
          <p:cNvSpPr/>
          <p:nvPr/>
        </p:nvSpPr>
        <p:spPr>
          <a:xfrm>
            <a:off x="3657600" y="29718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Line 15"/>
          <p:cNvSpPr/>
          <p:nvPr/>
        </p:nvSpPr>
        <p:spPr>
          <a:xfrm>
            <a:off x="4343400" y="29718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AutoShape 1"/>
          <p:cNvSpPr/>
          <p:nvPr/>
        </p:nvSpPr>
        <p:spPr>
          <a:xfrm>
            <a:off x="2819520" y="5105520"/>
            <a:ext cx="3200400" cy="609480"/>
          </a:xfrm>
          <a:prstGeom prst="roundRect">
            <a:avLst>
              <a:gd name="adj" fmla="val 259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ation of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binary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system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20" name="Group 4"/>
          <p:cNvGrpSpPr/>
          <p:nvPr/>
        </p:nvGrpSpPr>
        <p:grpSpPr>
          <a:xfrm>
            <a:off x="990360" y="3352680"/>
            <a:ext cx="7221600" cy="2390040"/>
            <a:chOff x="990360" y="3352680"/>
            <a:chExt cx="7221600" cy="2390040"/>
          </a:xfrm>
        </p:grpSpPr>
        <p:sp>
          <p:nvSpPr>
            <p:cNvPr id="221" name="AutoShape 5"/>
            <p:cNvSpPr/>
            <p:nvPr/>
          </p:nvSpPr>
          <p:spPr>
            <a:xfrm>
              <a:off x="990720" y="3352680"/>
              <a:ext cx="7221240" cy="2278080"/>
            </a:xfrm>
            <a:prstGeom prst="roundRect">
              <a:avLst>
                <a:gd name="adj" fmla="val 6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2" name="Group 6"/>
            <p:cNvGrpSpPr/>
            <p:nvPr/>
          </p:nvGrpSpPr>
          <p:grpSpPr>
            <a:xfrm>
              <a:off x="990360" y="3352680"/>
              <a:ext cx="7221600" cy="2390040"/>
              <a:chOff x="990360" y="3352680"/>
              <a:chExt cx="7221600" cy="2390040"/>
            </a:xfrm>
          </p:grpSpPr>
          <p:sp>
            <p:nvSpPr>
              <p:cNvPr id="223" name="AutoShape 7"/>
              <p:cNvSpPr/>
              <p:nvPr/>
            </p:nvSpPr>
            <p:spPr>
              <a:xfrm>
                <a:off x="990720" y="3352680"/>
                <a:ext cx="7221240" cy="2278080"/>
              </a:xfrm>
              <a:prstGeom prst="roundRect">
                <a:avLst>
                  <a:gd name="adj" fmla="val 6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AutoShape 8"/>
              <p:cNvSpPr/>
              <p:nvPr/>
            </p:nvSpPr>
            <p:spPr>
              <a:xfrm>
                <a:off x="990360" y="3352680"/>
                <a:ext cx="7182720" cy="2390040"/>
              </a:xfrm>
              <a:prstGeom prst="roundRect">
                <a:avLst>
                  <a:gd name="adj" fmla="val 6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01 </a:t>
                </a:r>
                <a:r>
                  <a:rPr b="0" lang="en-GB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binary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=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1      0       1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(1x 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2 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) + (0x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) + (1x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)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  (1x4) +   (0x2) + (1x1)</a:t>
                </a:r>
                <a:r>
                  <a:rPr b="0" lang="ar-SA" sz="2400" spc="-1" strike="noStrike">
                    <a:solidFill>
                      <a:srgbClr val="000000"/>
                    </a:solidFill>
                    <a:latin typeface="Times New Roman"/>
                  </a:rPr>
                  <a:t>‏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      4     +    0    +     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      5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01 </a:t>
                </a:r>
                <a:r>
                  <a:rPr b="0" lang="en-GB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binary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= 5 in decimal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5" name="Group 9"/>
          <p:cNvGrpSpPr/>
          <p:nvPr/>
        </p:nvGrpSpPr>
        <p:grpSpPr>
          <a:xfrm>
            <a:off x="2664720" y="2514600"/>
            <a:ext cx="1834200" cy="460440"/>
            <a:chOff x="2664720" y="2514600"/>
            <a:chExt cx="1834200" cy="460440"/>
          </a:xfrm>
        </p:grpSpPr>
        <p:sp>
          <p:nvSpPr>
            <p:cNvPr id="226" name="AutoShape 10"/>
            <p:cNvSpPr/>
            <p:nvPr/>
          </p:nvSpPr>
          <p:spPr>
            <a:xfrm>
              <a:off x="2666880" y="2514600"/>
              <a:ext cx="1832040" cy="45252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7" name="Group 11"/>
            <p:cNvGrpSpPr/>
            <p:nvPr/>
          </p:nvGrpSpPr>
          <p:grpSpPr>
            <a:xfrm>
              <a:off x="2664720" y="2514600"/>
              <a:ext cx="1834200" cy="460440"/>
              <a:chOff x="2664720" y="2514600"/>
              <a:chExt cx="1834200" cy="460440"/>
            </a:xfrm>
          </p:grpSpPr>
          <p:sp>
            <p:nvSpPr>
              <p:cNvPr id="228" name="AutoShape 12"/>
              <p:cNvSpPr/>
              <p:nvPr/>
            </p:nvSpPr>
            <p:spPr>
              <a:xfrm>
                <a:off x="2666880" y="2514600"/>
                <a:ext cx="1832040" cy="452520"/>
              </a:xfrm>
              <a:prstGeom prst="roundRect">
                <a:avLst>
                  <a:gd name="adj" fmla="val 3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AutoShape 13"/>
              <p:cNvSpPr/>
              <p:nvPr/>
            </p:nvSpPr>
            <p:spPr>
              <a:xfrm>
                <a:off x="2664720" y="2514600"/>
                <a:ext cx="1833480" cy="460440"/>
              </a:xfrm>
              <a:prstGeom prst="roundRect">
                <a:avLst>
                  <a:gd name="adj" fmla="val 3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4s      2s     1s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0" name="Line 14"/>
          <p:cNvSpPr/>
          <p:nvPr/>
        </p:nvSpPr>
        <p:spPr>
          <a:xfrm>
            <a:off x="3048120" y="29718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Line 15"/>
          <p:cNvSpPr/>
          <p:nvPr/>
        </p:nvSpPr>
        <p:spPr>
          <a:xfrm>
            <a:off x="3657600" y="29718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Line 16"/>
          <p:cNvSpPr/>
          <p:nvPr/>
        </p:nvSpPr>
        <p:spPr>
          <a:xfrm>
            <a:off x="4343400" y="29718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ation of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ranslate 10011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Bitstream Vera Sans"/>
              </a:rPr>
              <a:t>binary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into a decimal number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35" name="Group 3"/>
          <p:cNvGrpSpPr/>
          <p:nvPr/>
        </p:nvGrpSpPr>
        <p:grpSpPr>
          <a:xfrm>
            <a:off x="835920" y="2438280"/>
            <a:ext cx="2130480" cy="1009080"/>
            <a:chOff x="835920" y="2438280"/>
            <a:chExt cx="2130480" cy="1009080"/>
          </a:xfrm>
        </p:grpSpPr>
        <p:sp>
          <p:nvSpPr>
            <p:cNvPr id="236" name="AutoShape 4"/>
            <p:cNvSpPr/>
            <p:nvPr/>
          </p:nvSpPr>
          <p:spPr>
            <a:xfrm>
              <a:off x="838080" y="2438280"/>
              <a:ext cx="2122560" cy="1001880"/>
            </a:xfrm>
            <a:prstGeom prst="roundRect">
              <a:avLst>
                <a:gd name="adj" fmla="val 15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7" name="Group 5"/>
            <p:cNvGrpSpPr/>
            <p:nvPr/>
          </p:nvGrpSpPr>
          <p:grpSpPr>
            <a:xfrm>
              <a:off x="835920" y="2438280"/>
              <a:ext cx="2130480" cy="1009080"/>
              <a:chOff x="835920" y="2438280"/>
              <a:chExt cx="2130480" cy="1009080"/>
            </a:xfrm>
          </p:grpSpPr>
          <p:sp>
            <p:nvSpPr>
              <p:cNvPr id="238" name="AutoShape 6"/>
              <p:cNvSpPr/>
              <p:nvPr/>
            </p:nvSpPr>
            <p:spPr>
              <a:xfrm>
                <a:off x="838080" y="2438280"/>
                <a:ext cx="2122560" cy="100188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AutoShape 7"/>
              <p:cNvSpPr/>
              <p:nvPr/>
            </p:nvSpPr>
            <p:spPr>
              <a:xfrm>
                <a:off x="835920" y="2438280"/>
                <a:ext cx="2130480" cy="100908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.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Place the base tw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numerals under th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place values.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0" name="Group 8"/>
          <p:cNvGrpSpPr/>
          <p:nvPr/>
        </p:nvGrpSpPr>
        <p:grpSpPr>
          <a:xfrm>
            <a:off x="759600" y="3511440"/>
            <a:ext cx="2226600" cy="993960"/>
            <a:chOff x="759600" y="3511440"/>
            <a:chExt cx="2226600" cy="993960"/>
          </a:xfrm>
        </p:grpSpPr>
        <p:sp>
          <p:nvSpPr>
            <p:cNvPr id="241" name="AutoShape 9"/>
            <p:cNvSpPr/>
            <p:nvPr/>
          </p:nvSpPr>
          <p:spPr>
            <a:xfrm>
              <a:off x="762120" y="3511440"/>
              <a:ext cx="2224080" cy="993960"/>
            </a:xfrm>
            <a:prstGeom prst="roundRect">
              <a:avLst>
                <a:gd name="adj" fmla="val 15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2" name="Group 10"/>
            <p:cNvGrpSpPr/>
            <p:nvPr/>
          </p:nvGrpSpPr>
          <p:grpSpPr>
            <a:xfrm>
              <a:off x="759600" y="3511440"/>
              <a:ext cx="2226600" cy="993960"/>
              <a:chOff x="759600" y="3511440"/>
              <a:chExt cx="2226600" cy="993960"/>
            </a:xfrm>
          </p:grpSpPr>
          <p:sp>
            <p:nvSpPr>
              <p:cNvPr id="243" name="AutoShape 11"/>
              <p:cNvSpPr/>
              <p:nvPr/>
            </p:nvSpPr>
            <p:spPr>
              <a:xfrm>
                <a:off x="762120" y="3511440"/>
                <a:ext cx="2224080" cy="99396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AutoShape 12"/>
              <p:cNvSpPr/>
              <p:nvPr/>
            </p:nvSpPr>
            <p:spPr>
              <a:xfrm>
                <a:off x="759600" y="3511440"/>
                <a:ext cx="2213280" cy="93384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228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6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5" name="AutoShape 13"/>
          <p:cNvSpPr/>
          <p:nvPr/>
        </p:nvSpPr>
        <p:spPr>
          <a:xfrm>
            <a:off x="762120" y="3505320"/>
            <a:ext cx="2209680" cy="990360"/>
          </a:xfrm>
          <a:prstGeom prst="roundRect">
            <a:avLst>
              <a:gd name="adj" fmla="val 15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Line 14"/>
          <p:cNvSpPr/>
          <p:nvPr/>
        </p:nvSpPr>
        <p:spPr>
          <a:xfrm>
            <a:off x="762120" y="3886200"/>
            <a:ext cx="22096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Line 15"/>
          <p:cNvSpPr/>
          <p:nvPr/>
        </p:nvSpPr>
        <p:spPr>
          <a:xfrm>
            <a:off x="762120" y="4191120"/>
            <a:ext cx="22096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Line 16"/>
          <p:cNvSpPr/>
          <p:nvPr/>
        </p:nvSpPr>
        <p:spPr>
          <a:xfrm>
            <a:off x="1143000" y="3505320"/>
            <a:ext cx="144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Line 17"/>
          <p:cNvSpPr/>
          <p:nvPr/>
        </p:nvSpPr>
        <p:spPr>
          <a:xfrm>
            <a:off x="1600200" y="3505320"/>
            <a:ext cx="144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Line 18"/>
          <p:cNvSpPr/>
          <p:nvPr/>
        </p:nvSpPr>
        <p:spPr>
          <a:xfrm>
            <a:off x="2057400" y="3505320"/>
            <a:ext cx="144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Line 19"/>
          <p:cNvSpPr/>
          <p:nvPr/>
        </p:nvSpPr>
        <p:spPr>
          <a:xfrm>
            <a:off x="2514600" y="3505320"/>
            <a:ext cx="144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Group 20"/>
          <p:cNvGrpSpPr/>
          <p:nvPr/>
        </p:nvGrpSpPr>
        <p:grpSpPr>
          <a:xfrm>
            <a:off x="3733920" y="2438280"/>
            <a:ext cx="2224440" cy="734760"/>
            <a:chOff x="3733920" y="2438280"/>
            <a:chExt cx="2224440" cy="734760"/>
          </a:xfrm>
        </p:grpSpPr>
        <p:sp>
          <p:nvSpPr>
            <p:cNvPr id="253" name="AutoShape 21"/>
            <p:cNvSpPr/>
            <p:nvPr/>
          </p:nvSpPr>
          <p:spPr>
            <a:xfrm>
              <a:off x="3733920" y="2438280"/>
              <a:ext cx="2211120" cy="727200"/>
            </a:xfrm>
            <a:prstGeom prst="roundRect">
              <a:avLst>
                <a:gd name="adj" fmla="val 21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4" name="Group 22"/>
            <p:cNvGrpSpPr/>
            <p:nvPr/>
          </p:nvGrpSpPr>
          <p:grpSpPr>
            <a:xfrm>
              <a:off x="3733920" y="2438280"/>
              <a:ext cx="2224440" cy="734760"/>
              <a:chOff x="3733920" y="2438280"/>
              <a:chExt cx="2224440" cy="734760"/>
            </a:xfrm>
          </p:grpSpPr>
          <p:sp>
            <p:nvSpPr>
              <p:cNvPr id="255" name="AutoShape 23"/>
              <p:cNvSpPr/>
              <p:nvPr/>
            </p:nvSpPr>
            <p:spPr>
              <a:xfrm>
                <a:off x="3733920" y="2438280"/>
                <a:ext cx="2209680" cy="727200"/>
              </a:xfrm>
              <a:prstGeom prst="roundRect">
                <a:avLst>
                  <a:gd name="adj" fmla="val 21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AutoShape 24"/>
              <p:cNvSpPr/>
              <p:nvPr/>
            </p:nvSpPr>
            <p:spPr>
              <a:xfrm>
                <a:off x="3735000" y="2438280"/>
                <a:ext cx="2223360" cy="734760"/>
              </a:xfrm>
              <a:prstGeom prst="roundRect">
                <a:avLst>
                  <a:gd name="adj" fmla="val 21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.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Multiply through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by the place values.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7" name="Group 25"/>
          <p:cNvGrpSpPr/>
          <p:nvPr/>
        </p:nvGrpSpPr>
        <p:grpSpPr>
          <a:xfrm>
            <a:off x="3656880" y="3359160"/>
            <a:ext cx="2224800" cy="993600"/>
            <a:chOff x="3656880" y="3359160"/>
            <a:chExt cx="2224800" cy="993600"/>
          </a:xfrm>
        </p:grpSpPr>
        <p:sp>
          <p:nvSpPr>
            <p:cNvPr id="258" name="AutoShape 26"/>
            <p:cNvSpPr/>
            <p:nvPr/>
          </p:nvSpPr>
          <p:spPr>
            <a:xfrm>
              <a:off x="3657600" y="3359160"/>
              <a:ext cx="2224080" cy="993600"/>
            </a:xfrm>
            <a:prstGeom prst="roundRect">
              <a:avLst>
                <a:gd name="adj" fmla="val 15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9" name="Group 27"/>
            <p:cNvGrpSpPr/>
            <p:nvPr/>
          </p:nvGrpSpPr>
          <p:grpSpPr>
            <a:xfrm>
              <a:off x="3656880" y="3359160"/>
              <a:ext cx="2224800" cy="993600"/>
              <a:chOff x="3656880" y="3359160"/>
              <a:chExt cx="2224800" cy="993600"/>
            </a:xfrm>
          </p:grpSpPr>
          <p:sp>
            <p:nvSpPr>
              <p:cNvPr id="260" name="AutoShape 28"/>
              <p:cNvSpPr/>
              <p:nvPr/>
            </p:nvSpPr>
            <p:spPr>
              <a:xfrm>
                <a:off x="3657600" y="3359160"/>
                <a:ext cx="2224080" cy="99360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AutoShape 29"/>
              <p:cNvSpPr/>
              <p:nvPr/>
            </p:nvSpPr>
            <p:spPr>
              <a:xfrm>
                <a:off x="3656880" y="3359160"/>
                <a:ext cx="2213280" cy="93384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228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6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2" name="AutoShape 30"/>
          <p:cNvSpPr/>
          <p:nvPr/>
        </p:nvSpPr>
        <p:spPr>
          <a:xfrm>
            <a:off x="3657600" y="3352680"/>
            <a:ext cx="2209680" cy="990720"/>
          </a:xfrm>
          <a:prstGeom prst="roundRect">
            <a:avLst>
              <a:gd name="adj" fmla="val 15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Line 31"/>
          <p:cNvSpPr/>
          <p:nvPr/>
        </p:nvSpPr>
        <p:spPr>
          <a:xfrm>
            <a:off x="3657600" y="3733920"/>
            <a:ext cx="22096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Line 32"/>
          <p:cNvSpPr/>
          <p:nvPr/>
        </p:nvSpPr>
        <p:spPr>
          <a:xfrm>
            <a:off x="3657600" y="4038480"/>
            <a:ext cx="220968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Line 33"/>
          <p:cNvSpPr/>
          <p:nvPr/>
        </p:nvSpPr>
        <p:spPr>
          <a:xfrm>
            <a:off x="4038480" y="3352680"/>
            <a:ext cx="180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Line 34"/>
          <p:cNvSpPr/>
          <p:nvPr/>
        </p:nvSpPr>
        <p:spPr>
          <a:xfrm>
            <a:off x="4495680" y="3352680"/>
            <a:ext cx="180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Line 35"/>
          <p:cNvSpPr/>
          <p:nvPr/>
        </p:nvSpPr>
        <p:spPr>
          <a:xfrm>
            <a:off x="4952880" y="3352680"/>
            <a:ext cx="180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Line 36"/>
          <p:cNvSpPr/>
          <p:nvPr/>
        </p:nvSpPr>
        <p:spPr>
          <a:xfrm>
            <a:off x="5410080" y="3352680"/>
            <a:ext cx="180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Line 37"/>
          <p:cNvSpPr/>
          <p:nvPr/>
        </p:nvSpPr>
        <p:spPr>
          <a:xfrm>
            <a:off x="5410080" y="4343400"/>
            <a:ext cx="68580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Line 38"/>
          <p:cNvSpPr/>
          <p:nvPr/>
        </p:nvSpPr>
        <p:spPr>
          <a:xfrm>
            <a:off x="6095880" y="4876920"/>
            <a:ext cx="3049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Line 39"/>
          <p:cNvSpPr/>
          <p:nvPr/>
        </p:nvSpPr>
        <p:spPr>
          <a:xfrm>
            <a:off x="4952880" y="4343400"/>
            <a:ext cx="11430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Line 40"/>
          <p:cNvSpPr/>
          <p:nvPr/>
        </p:nvSpPr>
        <p:spPr>
          <a:xfrm>
            <a:off x="6095880" y="5181480"/>
            <a:ext cx="3049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Line 41"/>
          <p:cNvSpPr/>
          <p:nvPr/>
        </p:nvSpPr>
        <p:spPr>
          <a:xfrm>
            <a:off x="4495680" y="4343400"/>
            <a:ext cx="167652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Line 42"/>
          <p:cNvSpPr/>
          <p:nvPr/>
        </p:nvSpPr>
        <p:spPr>
          <a:xfrm>
            <a:off x="6172200" y="5562720"/>
            <a:ext cx="2286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Line 43"/>
          <p:cNvSpPr/>
          <p:nvPr/>
        </p:nvSpPr>
        <p:spPr>
          <a:xfrm>
            <a:off x="4038480" y="4343400"/>
            <a:ext cx="2133720" cy="1523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Line 44"/>
          <p:cNvSpPr/>
          <p:nvPr/>
        </p:nvSpPr>
        <p:spPr>
          <a:xfrm>
            <a:off x="6172200" y="5867280"/>
            <a:ext cx="2286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Line 45"/>
          <p:cNvSpPr/>
          <p:nvPr/>
        </p:nvSpPr>
        <p:spPr>
          <a:xfrm>
            <a:off x="3657600" y="4343400"/>
            <a:ext cx="2514600" cy="1905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Line 46"/>
          <p:cNvSpPr/>
          <p:nvPr/>
        </p:nvSpPr>
        <p:spPr>
          <a:xfrm>
            <a:off x="6172200" y="6248520"/>
            <a:ext cx="2286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9" name="Group 47"/>
          <p:cNvGrpSpPr/>
          <p:nvPr/>
        </p:nvGrpSpPr>
        <p:grpSpPr>
          <a:xfrm>
            <a:off x="6474960" y="2438280"/>
            <a:ext cx="1955160" cy="1009080"/>
            <a:chOff x="6474960" y="2438280"/>
            <a:chExt cx="1955160" cy="1009080"/>
          </a:xfrm>
        </p:grpSpPr>
        <p:sp>
          <p:nvSpPr>
            <p:cNvPr id="280" name="AutoShape 48"/>
            <p:cNvSpPr/>
            <p:nvPr/>
          </p:nvSpPr>
          <p:spPr>
            <a:xfrm>
              <a:off x="6477120" y="2438280"/>
              <a:ext cx="1944720" cy="1001880"/>
            </a:xfrm>
            <a:prstGeom prst="roundRect">
              <a:avLst>
                <a:gd name="adj" fmla="val 15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1" name="Group 49"/>
            <p:cNvGrpSpPr/>
            <p:nvPr/>
          </p:nvGrpSpPr>
          <p:grpSpPr>
            <a:xfrm>
              <a:off x="6474960" y="2438280"/>
              <a:ext cx="1955160" cy="1009080"/>
              <a:chOff x="6474960" y="2438280"/>
              <a:chExt cx="1955160" cy="1009080"/>
            </a:xfrm>
          </p:grpSpPr>
          <p:sp>
            <p:nvSpPr>
              <p:cNvPr id="282" name="AutoShape 50"/>
              <p:cNvSpPr/>
              <p:nvPr/>
            </p:nvSpPr>
            <p:spPr>
              <a:xfrm>
                <a:off x="6477120" y="2438280"/>
                <a:ext cx="1944720" cy="100188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AutoShape 51"/>
              <p:cNvSpPr/>
              <p:nvPr/>
            </p:nvSpPr>
            <p:spPr>
              <a:xfrm>
                <a:off x="6474960" y="2438280"/>
                <a:ext cx="1955160" cy="100908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3.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Add up th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column for th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decimal number.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4" name="Group 52"/>
          <p:cNvGrpSpPr/>
          <p:nvPr/>
        </p:nvGrpSpPr>
        <p:grpSpPr>
          <a:xfrm>
            <a:off x="5421600" y="4041720"/>
            <a:ext cx="1077480" cy="1074600"/>
            <a:chOff x="5421600" y="4041720"/>
            <a:chExt cx="1077480" cy="1074600"/>
          </a:xfrm>
        </p:grpSpPr>
        <p:sp>
          <p:nvSpPr>
            <p:cNvPr id="285" name="AutoShape 53"/>
            <p:cNvSpPr/>
            <p:nvPr/>
          </p:nvSpPr>
          <p:spPr>
            <a:xfrm rot="1980000">
              <a:off x="5722920" y="4413240"/>
              <a:ext cx="484200" cy="333360"/>
            </a:xfrm>
            <a:prstGeom prst="roundRect">
              <a:avLst>
                <a:gd name="adj" fmla="val 47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6" name="Group 54"/>
            <p:cNvGrpSpPr/>
            <p:nvPr/>
          </p:nvGrpSpPr>
          <p:grpSpPr>
            <a:xfrm>
              <a:off x="5421600" y="4041720"/>
              <a:ext cx="1077480" cy="1074600"/>
              <a:chOff x="5421600" y="4041720"/>
              <a:chExt cx="1077480" cy="1074600"/>
            </a:xfrm>
          </p:grpSpPr>
          <p:sp>
            <p:nvSpPr>
              <p:cNvPr id="287" name="AutoShape 55"/>
              <p:cNvSpPr/>
              <p:nvPr/>
            </p:nvSpPr>
            <p:spPr>
              <a:xfrm rot="1980000">
                <a:off x="5568480" y="4192560"/>
                <a:ext cx="783000" cy="77292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AutoShape 56"/>
              <p:cNvSpPr/>
              <p:nvPr/>
            </p:nvSpPr>
            <p:spPr>
              <a:xfrm rot="1980000">
                <a:off x="5826960" y="4236480"/>
                <a:ext cx="487800" cy="33804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x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9" name="Group 57"/>
          <p:cNvGrpSpPr/>
          <p:nvPr/>
        </p:nvGrpSpPr>
        <p:grpSpPr>
          <a:xfrm>
            <a:off x="4926600" y="4031280"/>
            <a:ext cx="1110240" cy="1114560"/>
            <a:chOff x="4926600" y="4031280"/>
            <a:chExt cx="1110240" cy="1114560"/>
          </a:xfrm>
        </p:grpSpPr>
        <p:sp>
          <p:nvSpPr>
            <p:cNvPr id="290" name="AutoShape 58"/>
            <p:cNvSpPr/>
            <p:nvPr/>
          </p:nvSpPr>
          <p:spPr>
            <a:xfrm rot="2400000">
              <a:off x="5260680" y="4417920"/>
              <a:ext cx="485640" cy="33336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1" name="Group 59"/>
            <p:cNvGrpSpPr/>
            <p:nvPr/>
          </p:nvGrpSpPr>
          <p:grpSpPr>
            <a:xfrm>
              <a:off x="4926600" y="4031280"/>
              <a:ext cx="1110240" cy="1114560"/>
              <a:chOff x="4926600" y="4031280"/>
              <a:chExt cx="1110240" cy="1114560"/>
            </a:xfrm>
          </p:grpSpPr>
          <p:sp>
            <p:nvSpPr>
              <p:cNvPr id="292" name="AutoShape 60"/>
              <p:cNvSpPr/>
              <p:nvPr/>
            </p:nvSpPr>
            <p:spPr>
              <a:xfrm rot="2400000">
                <a:off x="5095800" y="4184640"/>
                <a:ext cx="771480" cy="807840"/>
              </a:xfrm>
              <a:custGeom>
                <a:avLst/>
                <a:gdLst>
                  <a:gd name="textAreaLeft" fmla="*/ 720 w 771480"/>
                  <a:gd name="textAreaRight" fmla="*/ 770760 w 771480"/>
                  <a:gd name="textAreaTop" fmla="*/ 720 h 807840"/>
                  <a:gd name="textAreaBottom" fmla="*/ 807120 h 807840"/>
                </a:gdLst>
                <a:ahLst/>
                <a:rect l="textAreaLeft" t="textAreaTop" r="textAreaRight" b="textAreaBottom"/>
                <a:pathLst>
                  <a:path w="21600" h="22618">
                    <a:moveTo>
                      <a:pt x="101" y="0"/>
                    </a:moveTo>
                    <a:arcTo wR="101" hR="101" stAng="16200000" swAng="-5400000"/>
                    <a:lnTo>
                      <a:pt x="0" y="22517"/>
                    </a:lnTo>
                    <a:arcTo wR="101" hR="101" stAng="10800000" swAng="-5400000"/>
                    <a:lnTo>
                      <a:pt x="21499" y="22618"/>
                    </a:lnTo>
                    <a:arcTo wR="101" hR="101" stAng="5400000" swAng="-5400000"/>
                    <a:lnTo>
                      <a:pt x="21600" y="101"/>
                    </a:lnTo>
                    <a:arcTo wR="101" hR="101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AutoShape 61"/>
              <p:cNvSpPr/>
              <p:nvPr/>
            </p:nvSpPr>
            <p:spPr>
              <a:xfrm rot="2400000">
                <a:off x="5390280" y="4226400"/>
                <a:ext cx="487800" cy="33804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x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4" name="Group 62"/>
          <p:cNvGrpSpPr/>
          <p:nvPr/>
        </p:nvGrpSpPr>
        <p:grpSpPr>
          <a:xfrm>
            <a:off x="4478760" y="4021920"/>
            <a:ext cx="1112760" cy="1116000"/>
            <a:chOff x="4478760" y="4021920"/>
            <a:chExt cx="1112760" cy="1116000"/>
          </a:xfrm>
        </p:grpSpPr>
        <p:sp>
          <p:nvSpPr>
            <p:cNvPr id="295" name="AutoShape 63"/>
            <p:cNvSpPr/>
            <p:nvPr/>
          </p:nvSpPr>
          <p:spPr>
            <a:xfrm rot="2280000">
              <a:off x="4807080" y="4411440"/>
              <a:ext cx="484200" cy="33336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6" name="Group 64"/>
            <p:cNvGrpSpPr/>
            <p:nvPr/>
          </p:nvGrpSpPr>
          <p:grpSpPr>
            <a:xfrm>
              <a:off x="4478760" y="4021920"/>
              <a:ext cx="1112760" cy="1116000"/>
              <a:chOff x="4478760" y="4021920"/>
              <a:chExt cx="1112760" cy="1116000"/>
            </a:xfrm>
          </p:grpSpPr>
          <p:sp>
            <p:nvSpPr>
              <p:cNvPr id="297" name="AutoShape 65"/>
              <p:cNvSpPr/>
              <p:nvPr/>
            </p:nvSpPr>
            <p:spPr>
              <a:xfrm rot="2280000">
                <a:off x="4642920" y="4178160"/>
                <a:ext cx="784440" cy="803160"/>
              </a:xfrm>
              <a:custGeom>
                <a:avLst/>
                <a:gdLst>
                  <a:gd name="textAreaLeft" fmla="*/ 720 w 784440"/>
                  <a:gd name="textAreaRight" fmla="*/ 783720 w 784440"/>
                  <a:gd name="textAreaTop" fmla="*/ 720 h 803160"/>
                  <a:gd name="textAreaBottom" fmla="*/ 802440 h 803160"/>
                </a:gdLst>
                <a:ahLst/>
                <a:rect l="textAreaLeft" t="textAreaTop" r="textAreaRight" b="textAreaBottom"/>
                <a:pathLst>
                  <a:path w="21600" h="22115">
                    <a:moveTo>
                      <a:pt x="101" y="0"/>
                    </a:moveTo>
                    <a:arcTo wR="101" hR="101" stAng="16200000" swAng="-5400000"/>
                    <a:lnTo>
                      <a:pt x="0" y="22014"/>
                    </a:lnTo>
                    <a:arcTo wR="101" hR="101" stAng="10800000" swAng="-5400000"/>
                    <a:lnTo>
                      <a:pt x="21499" y="22115"/>
                    </a:lnTo>
                    <a:arcTo wR="101" hR="101" stAng="5400000" swAng="-5400000"/>
                    <a:lnTo>
                      <a:pt x="21600" y="101"/>
                    </a:lnTo>
                    <a:arcTo wR="101" hR="101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AutoShape 66"/>
              <p:cNvSpPr/>
              <p:nvPr/>
            </p:nvSpPr>
            <p:spPr>
              <a:xfrm rot="2280000">
                <a:off x="4928040" y="4229280"/>
                <a:ext cx="487800" cy="33804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0x4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9" name="Group 67"/>
          <p:cNvGrpSpPr/>
          <p:nvPr/>
        </p:nvGrpSpPr>
        <p:grpSpPr>
          <a:xfrm>
            <a:off x="4107960" y="4033080"/>
            <a:ext cx="1089720" cy="1092240"/>
            <a:chOff x="4107960" y="4033080"/>
            <a:chExt cx="1089720" cy="1092240"/>
          </a:xfrm>
        </p:grpSpPr>
        <p:sp>
          <p:nvSpPr>
            <p:cNvPr id="300" name="AutoShape 68"/>
            <p:cNvSpPr/>
            <p:nvPr/>
          </p:nvSpPr>
          <p:spPr>
            <a:xfrm rot="2100000">
              <a:off x="4422240" y="4411440"/>
              <a:ext cx="484200" cy="33336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1" name="Group 69"/>
            <p:cNvGrpSpPr/>
            <p:nvPr/>
          </p:nvGrpSpPr>
          <p:grpSpPr>
            <a:xfrm>
              <a:off x="4107960" y="4033080"/>
              <a:ext cx="1089720" cy="1092240"/>
              <a:chOff x="4107960" y="4033080"/>
              <a:chExt cx="1089720" cy="1092240"/>
            </a:xfrm>
          </p:grpSpPr>
          <p:sp>
            <p:nvSpPr>
              <p:cNvPr id="302" name="AutoShape 70"/>
              <p:cNvSpPr/>
              <p:nvPr/>
            </p:nvSpPr>
            <p:spPr>
              <a:xfrm rot="2100000">
                <a:off x="4263840" y="4184640"/>
                <a:ext cx="777960" cy="788760"/>
              </a:xfrm>
              <a:custGeom>
                <a:avLst/>
                <a:gdLst>
                  <a:gd name="textAreaLeft" fmla="*/ 720 w 777960"/>
                  <a:gd name="textAreaRight" fmla="*/ 777240 w 777960"/>
                  <a:gd name="textAreaTop" fmla="*/ 720 h 788760"/>
                  <a:gd name="textAreaBottom" fmla="*/ 788040 h 788760"/>
                </a:gdLst>
                <a:ahLst/>
                <a:rect l="textAreaLeft" t="textAreaTop" r="textAreaRight" b="textAreaBottom"/>
                <a:pathLst>
                  <a:path w="21600" h="21900">
                    <a:moveTo>
                      <a:pt x="101" y="0"/>
                    </a:moveTo>
                    <a:arcTo wR="101" hR="101" stAng="16200000" swAng="-5400000"/>
                    <a:lnTo>
                      <a:pt x="0" y="21799"/>
                    </a:lnTo>
                    <a:arcTo wR="101" hR="101" stAng="10800000" swAng="-5400000"/>
                    <a:lnTo>
                      <a:pt x="21499" y="21900"/>
                    </a:lnTo>
                    <a:arcTo wR="101" hR="101" stAng="5400000" swAng="-5400000"/>
                    <a:lnTo>
                      <a:pt x="21600" y="101"/>
                    </a:lnTo>
                    <a:arcTo wR="101" hR="101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AutoShape 71"/>
              <p:cNvSpPr/>
              <p:nvPr/>
            </p:nvSpPr>
            <p:spPr>
              <a:xfrm rot="2100000">
                <a:off x="4536360" y="4229280"/>
                <a:ext cx="487800" cy="33804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0x8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4" name="Group 72"/>
          <p:cNvGrpSpPr/>
          <p:nvPr/>
        </p:nvGrpSpPr>
        <p:grpSpPr>
          <a:xfrm>
            <a:off x="3533400" y="3966480"/>
            <a:ext cx="1229400" cy="1237680"/>
            <a:chOff x="3533400" y="3966480"/>
            <a:chExt cx="1229400" cy="1237680"/>
          </a:xfrm>
        </p:grpSpPr>
        <p:sp>
          <p:nvSpPr>
            <p:cNvPr id="305" name="AutoShape 73"/>
            <p:cNvSpPr/>
            <p:nvPr/>
          </p:nvSpPr>
          <p:spPr>
            <a:xfrm rot="2400000">
              <a:off x="3895200" y="4419360"/>
              <a:ext cx="586080" cy="331560"/>
            </a:xfrm>
            <a:prstGeom prst="roundRect">
              <a:avLst>
                <a:gd name="adj" fmla="val 47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6" name="Group 74"/>
            <p:cNvGrpSpPr/>
            <p:nvPr/>
          </p:nvGrpSpPr>
          <p:grpSpPr>
            <a:xfrm>
              <a:off x="3533400" y="3966480"/>
              <a:ext cx="1229400" cy="1237680"/>
              <a:chOff x="3533400" y="3966480"/>
              <a:chExt cx="1229400" cy="1237680"/>
            </a:xfrm>
          </p:grpSpPr>
          <p:sp>
            <p:nvSpPr>
              <p:cNvPr id="307" name="AutoShape 75"/>
              <p:cNvSpPr/>
              <p:nvPr/>
            </p:nvSpPr>
            <p:spPr>
              <a:xfrm rot="2400000">
                <a:off x="3727080" y="4130280"/>
                <a:ext cx="841680" cy="909360"/>
              </a:xfrm>
              <a:custGeom>
                <a:avLst/>
                <a:gdLst>
                  <a:gd name="textAreaLeft" fmla="*/ 1080 w 841680"/>
                  <a:gd name="textAreaRight" fmla="*/ 840600 w 841680"/>
                  <a:gd name="textAreaTop" fmla="*/ 1080 h 909360"/>
                  <a:gd name="textAreaBottom" fmla="*/ 908280 h 909360"/>
                </a:gdLst>
                <a:ahLst/>
                <a:rect l="textAreaLeft" t="textAreaTop" r="textAreaRight" b="textAreaBottom"/>
                <a:pathLst>
                  <a:path w="21600" h="23336">
                    <a:moveTo>
                      <a:pt x="102" y="0"/>
                    </a:moveTo>
                    <a:arcTo wR="102" hR="102" stAng="16200000" swAng="-5400000"/>
                    <a:lnTo>
                      <a:pt x="0" y="23234"/>
                    </a:lnTo>
                    <a:arcTo wR="102" hR="102" stAng="10800000" swAng="-5400000"/>
                    <a:lnTo>
                      <a:pt x="21498" y="23336"/>
                    </a:lnTo>
                    <a:arcTo wR="102" hR="102" stAng="5400000" swAng="-5400000"/>
                    <a:lnTo>
                      <a:pt x="21600" y="102"/>
                    </a:lnTo>
                    <a:arcTo wR="102" hR="102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AutoShape 76"/>
              <p:cNvSpPr/>
              <p:nvPr/>
            </p:nvSpPr>
            <p:spPr>
              <a:xfrm rot="2400000">
                <a:off x="4021200" y="4198320"/>
                <a:ext cx="590040" cy="33804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x16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9" name="Group 77"/>
          <p:cNvGrpSpPr/>
          <p:nvPr/>
        </p:nvGrpSpPr>
        <p:grpSpPr>
          <a:xfrm>
            <a:off x="6626880" y="4724280"/>
            <a:ext cx="410400" cy="1740600"/>
            <a:chOff x="6626880" y="4724280"/>
            <a:chExt cx="410400" cy="1740600"/>
          </a:xfrm>
        </p:grpSpPr>
        <p:sp>
          <p:nvSpPr>
            <p:cNvPr id="310" name="AutoShape 78"/>
            <p:cNvSpPr/>
            <p:nvPr/>
          </p:nvSpPr>
          <p:spPr>
            <a:xfrm>
              <a:off x="6629400" y="4724280"/>
              <a:ext cx="407880" cy="1735200"/>
            </a:xfrm>
            <a:custGeom>
              <a:avLst/>
              <a:gdLst>
                <a:gd name="textAreaLeft" fmla="*/ 360 w 407880"/>
                <a:gd name="textAreaRight" fmla="*/ 407520 w 407880"/>
                <a:gd name="textAreaTop" fmla="*/ 360 h 1735200"/>
                <a:gd name="textAreaBottom" fmla="*/ 1734840 h 1735200"/>
              </a:gdLst>
              <a:ahLst/>
              <a:rect l="textAreaLeft" t="textAreaTop" r="textAreaRight" b="textAreaBottom"/>
              <a:pathLst>
                <a:path w="21600" h="91829">
                  <a:moveTo>
                    <a:pt x="83" y="0"/>
                  </a:moveTo>
                  <a:arcTo wR="83" hR="83" stAng="16200000" swAng="-5400000"/>
                  <a:lnTo>
                    <a:pt x="0" y="91746"/>
                  </a:lnTo>
                  <a:arcTo wR="83" hR="83" stAng="10800000" swAng="-5400000"/>
                  <a:lnTo>
                    <a:pt x="21517" y="91829"/>
                  </a:lnTo>
                  <a:arcTo wR="83" hR="83" stAng="5400000" swAng="-5400000"/>
                  <a:lnTo>
                    <a:pt x="21600" y="83"/>
                  </a:lnTo>
                  <a:arcTo wR="83" hR="83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1" name="Group 79"/>
            <p:cNvGrpSpPr/>
            <p:nvPr/>
          </p:nvGrpSpPr>
          <p:grpSpPr>
            <a:xfrm>
              <a:off x="6626880" y="4724280"/>
              <a:ext cx="410400" cy="1740600"/>
              <a:chOff x="6626880" y="4724280"/>
              <a:chExt cx="410400" cy="1740600"/>
            </a:xfrm>
          </p:grpSpPr>
          <p:sp>
            <p:nvSpPr>
              <p:cNvPr id="312" name="AutoShape 80"/>
              <p:cNvSpPr/>
              <p:nvPr/>
            </p:nvSpPr>
            <p:spPr>
              <a:xfrm>
                <a:off x="6629400" y="4724280"/>
                <a:ext cx="407880" cy="1735200"/>
              </a:xfrm>
              <a:custGeom>
                <a:avLst/>
                <a:gdLst>
                  <a:gd name="textAreaLeft" fmla="*/ 360 w 407880"/>
                  <a:gd name="textAreaRight" fmla="*/ 407520 w 407880"/>
                  <a:gd name="textAreaTop" fmla="*/ 360 h 1735200"/>
                  <a:gd name="textAreaBottom" fmla="*/ 1734840 h 1735200"/>
                </a:gdLst>
                <a:ahLst/>
                <a:rect l="textAreaLeft" t="textAreaTop" r="textAreaRight" b="textAreaBottom"/>
                <a:pathLst>
                  <a:path w="21600" h="91829">
                    <a:moveTo>
                      <a:pt x="83" y="0"/>
                    </a:moveTo>
                    <a:arcTo wR="83" hR="83" stAng="16200000" swAng="-5400000"/>
                    <a:lnTo>
                      <a:pt x="0" y="91746"/>
                    </a:lnTo>
                    <a:arcTo wR="83" hR="83" stAng="10800000" swAng="-5400000"/>
                    <a:lnTo>
                      <a:pt x="21517" y="91829"/>
                    </a:lnTo>
                    <a:arcTo wR="83" hR="83" stAng="5400000" swAng="-5400000"/>
                    <a:lnTo>
                      <a:pt x="21600" y="83"/>
                    </a:lnTo>
                    <a:arcTo wR="83" hR="83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AutoShape 81"/>
              <p:cNvSpPr/>
              <p:nvPr/>
            </p:nvSpPr>
            <p:spPr>
              <a:xfrm>
                <a:off x="6626880" y="4724280"/>
                <a:ext cx="410040" cy="1740600"/>
              </a:xfrm>
              <a:custGeom>
                <a:avLst/>
                <a:gdLst>
                  <a:gd name="textAreaLeft" fmla="*/ 360 w 410040"/>
                  <a:gd name="textAreaRight" fmla="*/ 409680 w 410040"/>
                  <a:gd name="textAreaTop" fmla="*/ 360 h 1740600"/>
                  <a:gd name="textAreaBottom" fmla="*/ 1740240 h 1740600"/>
                </a:gdLst>
                <a:ahLst/>
                <a:rect l="textAreaLeft" t="textAreaTop" r="textAreaRight" b="textAreaBottom"/>
                <a:pathLst>
                  <a:path w="21600" h="91629">
                    <a:moveTo>
                      <a:pt x="83" y="0"/>
                    </a:moveTo>
                    <a:arcTo wR="83" hR="83" stAng="16200000" swAng="-5400000"/>
                    <a:lnTo>
                      <a:pt x="0" y="91546"/>
                    </a:lnTo>
                    <a:arcTo wR="83" hR="83" stAng="10800000" swAng="-5400000"/>
                    <a:lnTo>
                      <a:pt x="21517" y="91629"/>
                    </a:lnTo>
                    <a:arcTo wR="83" hR="83" stAng="5400000" swAng="-5400000"/>
                    <a:lnTo>
                      <a:pt x="21600" y="83"/>
                    </a:lnTo>
                    <a:arcTo wR="83" hR="83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dec" pos="160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dec" pos="160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dec" pos="160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dec" pos="160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dec" pos="160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	</a:t>
                </a:r>
                <a:r>
                  <a:rPr b="0" lang="en-GB" sz="18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16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dec" pos="160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9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4" name="Freeform 82"/>
          <p:cNvSpPr/>
          <p:nvPr/>
        </p:nvSpPr>
        <p:spPr>
          <a:xfrm>
            <a:off x="6934320" y="4724280"/>
            <a:ext cx="457200" cy="1676520"/>
          </a:xfrm>
          <a:custGeom>
            <a:avLst/>
            <a:gdLst/>
            <a:ahLst/>
            <a:rect l="l" t="t" r="r" b="b"/>
            <a:pathLst>
              <a:path w="1271" h="4658">
                <a:moveTo>
                  <a:pt x="0" y="0"/>
                </a:moveTo>
                <a:cubicBezTo>
                  <a:pt x="317" y="0"/>
                  <a:pt x="635" y="194"/>
                  <a:pt x="635" y="388"/>
                </a:cubicBezTo>
                <a:lnTo>
                  <a:pt x="635" y="1940"/>
                </a:lnTo>
                <a:cubicBezTo>
                  <a:pt x="635" y="2134"/>
                  <a:pt x="953" y="2328"/>
                  <a:pt x="1270" y="2328"/>
                </a:cubicBezTo>
                <a:cubicBezTo>
                  <a:pt x="953" y="2328"/>
                  <a:pt x="635" y="2523"/>
                  <a:pt x="635" y="2717"/>
                </a:cubicBezTo>
                <a:lnTo>
                  <a:pt x="635" y="4269"/>
                </a:lnTo>
                <a:cubicBezTo>
                  <a:pt x="635" y="4463"/>
                  <a:pt x="317" y="4657"/>
                  <a:pt x="0" y="465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Line 83"/>
          <p:cNvSpPr/>
          <p:nvPr/>
        </p:nvSpPr>
        <p:spPr>
          <a:xfrm flipH="1">
            <a:off x="7455960" y="5562720"/>
            <a:ext cx="32724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Line 84"/>
          <p:cNvSpPr/>
          <p:nvPr/>
        </p:nvSpPr>
        <p:spPr>
          <a:xfrm flipV="1">
            <a:off x="7772400" y="3417480"/>
            <a:ext cx="1440" cy="2156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7" name="Group 85"/>
          <p:cNvGrpSpPr/>
          <p:nvPr/>
        </p:nvGrpSpPr>
        <p:grpSpPr>
          <a:xfrm>
            <a:off x="990720" y="5531400"/>
            <a:ext cx="3498840" cy="510120"/>
            <a:chOff x="990720" y="5531400"/>
            <a:chExt cx="3498840" cy="510120"/>
          </a:xfrm>
        </p:grpSpPr>
        <p:sp>
          <p:nvSpPr>
            <p:cNvPr id="318" name="AutoShape 86"/>
            <p:cNvSpPr/>
            <p:nvPr/>
          </p:nvSpPr>
          <p:spPr>
            <a:xfrm>
              <a:off x="990720" y="5611680"/>
              <a:ext cx="3498840" cy="354240"/>
            </a:xfrm>
            <a:prstGeom prst="roundRect">
              <a:avLst>
                <a:gd name="adj" fmla="val 444"/>
              </a:avLst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9" name="Group 87"/>
            <p:cNvGrpSpPr/>
            <p:nvPr/>
          </p:nvGrpSpPr>
          <p:grpSpPr>
            <a:xfrm>
              <a:off x="990720" y="5531400"/>
              <a:ext cx="3497040" cy="510120"/>
              <a:chOff x="990720" y="5531400"/>
              <a:chExt cx="3497040" cy="510120"/>
            </a:xfrm>
          </p:grpSpPr>
          <p:sp>
            <p:nvSpPr>
              <p:cNvPr id="320" name="AutoShape 88"/>
              <p:cNvSpPr/>
              <p:nvPr/>
            </p:nvSpPr>
            <p:spPr>
              <a:xfrm>
                <a:off x="990720" y="5610240"/>
                <a:ext cx="3497040" cy="353880"/>
              </a:xfrm>
              <a:prstGeom prst="roundRect">
                <a:avLst>
                  <a:gd name="adj" fmla="val 44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Text Box 89"/>
              <p:cNvSpPr/>
              <p:nvPr/>
            </p:nvSpPr>
            <p:spPr>
              <a:xfrm>
                <a:off x="990720" y="5531400"/>
                <a:ext cx="3497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0011 </a:t>
                </a:r>
                <a:r>
                  <a:rPr b="0" lang="en-GB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binary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= 19 in decimal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1" descr=""/>
          <p:cNvPicPr/>
          <p:nvPr/>
        </p:nvPicPr>
        <p:blipFill>
          <a:blip r:embed="rId1"/>
          <a:stretch/>
        </p:blipFill>
        <p:spPr>
          <a:xfrm>
            <a:off x="4952880" y="2133720"/>
            <a:ext cx="3990960" cy="393372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ing Symbols and Tex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5045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ach letter and symbol in a text document must be translated into a binary number for storage in the computer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tandardized means of storing these code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SCII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(American Standard Code for Information Interchange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EBCDIC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(Extended Binary Coded Decimal Interchange Code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UNICODE (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xtended ASCII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-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ida kursus annab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õimaldab esimese semestri jooksul enamvähem aru saada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s on infotehnoloogia, mis on meie erial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llest edaspidistes IT kursustes juttu tuleb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uidas erinevad IT teemad omavahel seotud on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s teema on milleks oluline: praktikas ja teooria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uidas IT on i arenenud ja mida võiks lähiaastatel oodat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5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66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ing Pictur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ictures must be translated into a binary format for storage in the computer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e picture is broken down into small elements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ese elements are called Pixels (Picture Elements)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igitizer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 device that converts a picture into a binary format for storage in the computer.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xamples of digitizers: scanner, digital camera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ing Pictur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Digitized picture of a tiger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329" name="Picture 3" descr=""/>
          <p:cNvPicPr/>
          <p:nvPr/>
        </p:nvPicPr>
        <p:blipFill>
          <a:blip r:embed="rId1"/>
          <a:stretch/>
        </p:blipFill>
        <p:spPr>
          <a:xfrm>
            <a:off x="1752480" y="2362320"/>
            <a:ext cx="5943600" cy="3973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ing Pictur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Black and white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ixels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are either 0 or 1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332" name="Picture 3" descr=""/>
          <p:cNvPicPr/>
          <p:nvPr/>
        </p:nvPicPr>
        <p:blipFill>
          <a:blip r:embed="rId1"/>
          <a:stretch/>
        </p:blipFill>
        <p:spPr>
          <a:xfrm>
            <a:off x="1295280" y="2743200"/>
            <a:ext cx="3733920" cy="3035160"/>
          </a:xfrm>
          <a:prstGeom prst="rect">
            <a:avLst/>
          </a:prstGeom>
          <a:ln w="0">
            <a:noFill/>
          </a:ln>
        </p:spPr>
      </p:pic>
      <p:grpSp>
        <p:nvGrpSpPr>
          <p:cNvPr id="333" name="Group 4"/>
          <p:cNvGrpSpPr/>
          <p:nvPr/>
        </p:nvGrpSpPr>
        <p:grpSpPr>
          <a:xfrm>
            <a:off x="5712480" y="2133720"/>
            <a:ext cx="2845440" cy="4209480"/>
            <a:chOff x="5712480" y="2133720"/>
            <a:chExt cx="2845440" cy="4209480"/>
          </a:xfrm>
        </p:grpSpPr>
        <p:sp>
          <p:nvSpPr>
            <p:cNvPr id="334" name="AutoShape 5"/>
            <p:cNvSpPr/>
            <p:nvPr/>
          </p:nvSpPr>
          <p:spPr>
            <a:xfrm>
              <a:off x="5715000" y="2133720"/>
              <a:ext cx="2808360" cy="4182840"/>
            </a:xfrm>
            <a:custGeom>
              <a:avLst/>
              <a:gdLst>
                <a:gd name="textAreaLeft" fmla="*/ 360 w 2808360"/>
                <a:gd name="textAreaRight" fmla="*/ 2808000 w 2808360"/>
                <a:gd name="textAreaTop" fmla="*/ 360 h 4182840"/>
                <a:gd name="textAreaBottom" fmla="*/ 4182480 h 4182840"/>
              </a:gdLst>
              <a:ahLst/>
              <a:rect l="textAreaLeft" t="textAreaTop" r="textAreaRight" b="textAreaBottom"/>
              <a:pathLst>
                <a:path w="21600" h="32170">
                  <a:moveTo>
                    <a:pt x="12" y="0"/>
                  </a:moveTo>
                  <a:arcTo wR="12" hR="12" stAng="16200000" swAng="-5400000"/>
                  <a:lnTo>
                    <a:pt x="0" y="32158"/>
                  </a:lnTo>
                  <a:arcTo wR="12" hR="12" stAng="10800000" swAng="-5400000"/>
                  <a:lnTo>
                    <a:pt x="21588" y="32170"/>
                  </a:lnTo>
                  <a:arcTo wR="12" hR="12" stAng="5400000" swAng="-5400000"/>
                  <a:lnTo>
                    <a:pt x="21600" y="12"/>
                  </a:lnTo>
                  <a:arcTo wR="12" hR="12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5" name="Group 6"/>
            <p:cNvGrpSpPr/>
            <p:nvPr/>
          </p:nvGrpSpPr>
          <p:grpSpPr>
            <a:xfrm>
              <a:off x="5712480" y="2133720"/>
              <a:ext cx="2845440" cy="4209480"/>
              <a:chOff x="5712480" y="2133720"/>
              <a:chExt cx="2845440" cy="4209480"/>
            </a:xfrm>
          </p:grpSpPr>
          <p:sp>
            <p:nvSpPr>
              <p:cNvPr id="336" name="AutoShape 7"/>
              <p:cNvSpPr/>
              <p:nvPr/>
            </p:nvSpPr>
            <p:spPr>
              <a:xfrm>
                <a:off x="5715000" y="2133720"/>
                <a:ext cx="2808360" cy="4182840"/>
              </a:xfrm>
              <a:custGeom>
                <a:avLst/>
                <a:gdLst>
                  <a:gd name="textAreaLeft" fmla="*/ 360 w 2808360"/>
                  <a:gd name="textAreaRight" fmla="*/ 2808000 w 2808360"/>
                  <a:gd name="textAreaTop" fmla="*/ 360 h 4182840"/>
                  <a:gd name="textAreaBottom" fmla="*/ 4182480 h 4182840"/>
                </a:gdLst>
                <a:ahLst/>
                <a:rect l="textAreaLeft" t="textAreaTop" r="textAreaRight" b="textAreaBottom"/>
                <a:pathLst>
                  <a:path w="21600" h="32170">
                    <a:moveTo>
                      <a:pt x="12" y="0"/>
                    </a:moveTo>
                    <a:arcTo wR="12" hR="12" stAng="16200000" swAng="-5400000"/>
                    <a:lnTo>
                      <a:pt x="0" y="32158"/>
                    </a:lnTo>
                    <a:arcTo wR="12" hR="12" stAng="10800000" swAng="-5400000"/>
                    <a:lnTo>
                      <a:pt x="21588" y="32170"/>
                    </a:lnTo>
                    <a:arcTo wR="12" hR="12" stAng="5400000" swAng="-5400000"/>
                    <a:lnTo>
                      <a:pt x="21600" y="12"/>
                    </a:lnTo>
                    <a:arcTo wR="12" hR="12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AutoShape 8"/>
              <p:cNvSpPr/>
              <p:nvPr/>
            </p:nvSpPr>
            <p:spPr>
              <a:xfrm>
                <a:off x="5712480" y="2133720"/>
                <a:ext cx="2845440" cy="4209480"/>
              </a:xfrm>
              <a:custGeom>
                <a:avLst/>
                <a:gdLst>
                  <a:gd name="textAreaLeft" fmla="*/ 360 w 2845440"/>
                  <a:gd name="textAreaRight" fmla="*/ 2845080 w 2845440"/>
                  <a:gd name="textAreaTop" fmla="*/ 360 h 4209480"/>
                  <a:gd name="textAreaBottom" fmla="*/ 4209120 h 4209480"/>
                </a:gdLst>
                <a:ahLst/>
                <a:rect l="textAreaLeft" t="textAreaTop" r="textAreaRight" b="textAreaBottom"/>
                <a:pathLst>
                  <a:path w="21600" h="31953">
                    <a:moveTo>
                      <a:pt x="12" y="0"/>
                    </a:moveTo>
                    <a:arcTo wR="12" hR="12" stAng="16200000" swAng="-5400000"/>
                    <a:lnTo>
                      <a:pt x="0" y="31941"/>
                    </a:lnTo>
                    <a:arcTo wR="12" hR="12" stAng="10800000" swAng="-5400000"/>
                    <a:lnTo>
                      <a:pt x="21588" y="31953"/>
                    </a:lnTo>
                    <a:arcTo wR="12" hR="12" stAng="5400000" swAng="-5400000"/>
                    <a:lnTo>
                      <a:pt x="21600" y="12"/>
                    </a:lnTo>
                    <a:arcTo wR="12" hR="12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100000000000000000000000000000000000001010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0000000000000010000000000000000000000000010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100000000000001000000000000000000000000000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101010000000000100000000000000000000000000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0100000000000010110000000000000000000000010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00010000000000011110000000000000000000000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001001000000000111110101010111000000000000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10000000000001111011101111111010000000010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10100100000110111110111111011000000000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10100000000111110111101011101000000000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10100100011101010101011010000000000010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101010000001110101010110101010000001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1011000000101010010000000000000000000111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000001100101010000000000000000000000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000001011001010000000000000000000010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1001010101010010010101000000000000000101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00001111110100101101110101011000000010110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0100111101011111111111010110110101111111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1001011111011111111111111111110111111011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1010110111111111111111111111111111111111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1000011101111111111111111111111111111111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0101001111111111111111111111111111111111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1000010101111111111111111110111111001111010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0111101111111111111111111111101101010111010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1010101111111111111111101011011110111101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101111111111110101110110100111111010101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101111111111110111111111001011110110101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011111101011111011101110100111111010101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01111111111111110101111111011111101110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1011111011010101100001011111111111111010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ing Pictur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Gray-Scale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ach pixel contains a value representing some shade of gray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e more shades of gray possible, the more memory will be needed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4 shades of gray needs 2 bits per pixel: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00, 01, 10, 11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8 shades of gray needs 3 bits per pixel: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000, 001, 010, 011, 100, 101, 110, 111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64 shades of gray needs 6 bits per pixel: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000000, 000001, … 111110, 111111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1" descr=""/>
          <p:cNvPicPr/>
          <p:nvPr/>
        </p:nvPicPr>
        <p:blipFill>
          <a:blip r:embed="rId1"/>
          <a:stretch/>
        </p:blipFill>
        <p:spPr>
          <a:xfrm>
            <a:off x="5562720" y="1600200"/>
            <a:ext cx="2238120" cy="487692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ing Pictur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75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essage transmission from the Arecibo radio telescope in Puerto Rico to other stars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torage of Binary Informatio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Capacity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45" name="Group 3"/>
          <p:cNvGrpSpPr/>
          <p:nvPr/>
        </p:nvGrpSpPr>
        <p:grpSpPr>
          <a:xfrm>
            <a:off x="960840" y="2362320"/>
            <a:ext cx="6996960" cy="3386160"/>
            <a:chOff x="960840" y="2362320"/>
            <a:chExt cx="6996960" cy="3386160"/>
          </a:xfrm>
        </p:grpSpPr>
        <p:sp>
          <p:nvSpPr>
            <p:cNvPr id="346" name="AutoShape 4"/>
            <p:cNvSpPr/>
            <p:nvPr/>
          </p:nvSpPr>
          <p:spPr>
            <a:xfrm>
              <a:off x="990720" y="2362320"/>
              <a:ext cx="6927840" cy="3375000"/>
            </a:xfrm>
            <a:prstGeom prst="roundRect">
              <a:avLst>
                <a:gd name="adj" fmla="val 46"/>
              </a:avLst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47" name="Group 5"/>
            <p:cNvGrpSpPr/>
            <p:nvPr/>
          </p:nvGrpSpPr>
          <p:grpSpPr>
            <a:xfrm>
              <a:off x="960840" y="2362320"/>
              <a:ext cx="6996960" cy="3386160"/>
              <a:chOff x="960840" y="2362320"/>
              <a:chExt cx="6996960" cy="3386160"/>
            </a:xfrm>
          </p:grpSpPr>
          <p:sp>
            <p:nvSpPr>
              <p:cNvPr id="348" name="AutoShape 6"/>
              <p:cNvSpPr/>
              <p:nvPr/>
            </p:nvSpPr>
            <p:spPr>
              <a:xfrm>
                <a:off x="990720" y="2362320"/>
                <a:ext cx="6926040" cy="3373200"/>
              </a:xfrm>
              <a:prstGeom prst="roundRect">
                <a:avLst>
                  <a:gd name="adj" fmla="val 46"/>
                </a:avLst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49" name="Group 7"/>
              <p:cNvGrpSpPr/>
              <p:nvPr/>
            </p:nvGrpSpPr>
            <p:grpSpPr>
              <a:xfrm>
                <a:off x="960840" y="2362320"/>
                <a:ext cx="6996960" cy="3386160"/>
                <a:chOff x="960840" y="2362320"/>
                <a:chExt cx="6996960" cy="3386160"/>
              </a:xfrm>
            </p:grpSpPr>
            <p:sp>
              <p:nvSpPr>
                <p:cNvPr id="350" name="AutoShape 8"/>
                <p:cNvSpPr/>
                <p:nvPr/>
              </p:nvSpPr>
              <p:spPr>
                <a:xfrm>
                  <a:off x="990720" y="2362320"/>
                  <a:ext cx="6926040" cy="3373200"/>
                </a:xfrm>
                <a:prstGeom prst="roundRect">
                  <a:avLst>
                    <a:gd name="adj" fmla="val 46"/>
                  </a:avLst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AutoShape 9"/>
                <p:cNvSpPr/>
                <p:nvPr/>
              </p:nvSpPr>
              <p:spPr>
                <a:xfrm>
                  <a:off x="960840" y="2362320"/>
                  <a:ext cx="6996960" cy="3386160"/>
                </a:xfrm>
                <a:prstGeom prst="roundRect">
                  <a:avLst>
                    <a:gd name="adj" fmla="val 46"/>
                  </a:avLst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1" i="1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Unit</a:t>
                  </a:r>
                  <a:r>
                    <a:rPr b="1" i="1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1" i="1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Description</a:t>
                  </a:r>
                  <a:r>
                    <a:rPr b="1" i="1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1" i="1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Approximate Size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bit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binary digit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nibble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4 bits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byte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8 bits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character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kilobyte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,024 bytes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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/2 page, double spaced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megabyte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,048,576 bytes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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500,000 pages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million bytes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gigabyte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,073,741,824 bytes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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5 million pages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billion bytes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terabyte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trillion bytes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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5 billion pages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structions as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Fact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eclarative: statement of being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mparts knowledge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Instruction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mperative: demands action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ontrols information or activity.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structions as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Instruction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ust be stored within the computer before use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ust be stored in binary form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 set of binary instructions is called a program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he Stored-program Compute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rogram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 collection of instructions for the computer to perform one by one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Machine Language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e language of the computing machine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ll instructions must be in the form of binary numbers (binary code)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7" dur="500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" dur="500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3" dur="500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he Stored-program Compute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Stored-program Computer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lso known as the von Neumann-type computer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as memory - a place to keep both: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structions (ie program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nd the needed information (ie data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eeded for computation by the computer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-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rsuse 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hindam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24720" indent="-32148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kku ca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30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engut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: iga nädal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472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2800" indent="-321840">
              <a:lnSpc>
                <a:spcPct val="88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Esmaspäeval: kavas olev sisu, eksamiks kriitiline, õppejõud T.Tammet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2800" indent="-321840">
              <a:lnSpc>
                <a:spcPct val="88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Teisipäeval: erinevad teemad / kursuste ülevaated / õppejõud, kohati eksamil kajastatud, kohati ei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280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4720" indent="-32148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aktikumid on iseõppelised: juhendamist neis ei toimu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4720" indent="-32148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Iga nädal on vaja veebist teha mikro-kontrolltöö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4720" indent="-32148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rsus lõpeb kirjaliku eksamiga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4720" indent="-32148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Kursuse hinne arvutatakse nii: eksamipunktid (0-100) - kontrolltööde summaarne tulemus veapunktid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472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Igas kontrolltöös on kümme küsimust: kaks viga kontrolltöös on üks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veapunkt, neli kaks veapunkti jne, tegemata kontrolltöö on viis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veapunkti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472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Tudengi kõigi kontrolltööde miinuspunktide summast lahutatakse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keskmine kontrolltööde miinuspunktide summa, vahe ongi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summaarne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tulemus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4720" indent="0">
              <a:lnSpc>
                <a:spcPct val="88000"/>
              </a:lnSpc>
              <a:spcBef>
                <a:spcPts val="3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0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71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õtlemisviisidest: analoog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ne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 vs diskreet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60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idevad ehk analoog-asja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omaga arvud, murrud jm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rigonomeetri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atemaatiline analüü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lassikaline füüsik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õõtmised, tugevus jms klassikaline insenerivärk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Katkevad ehk diskreetsed asja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äisarvu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oogik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ulkade struktuur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kst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gramm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62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363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õtlemisviisides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81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llega ja milleks tegeleda? Kaks keerukalt seotud poolust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rvutiteadus: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ha võimalikult keerulisi asju!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Kommertsrakendused: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liendile meelepäraseid asju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67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368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0" name="Line 6"/>
          <p:cNvSpPr/>
          <p:nvPr/>
        </p:nvSpPr>
        <p:spPr>
          <a:xfrm>
            <a:off x="3048120" y="2682720"/>
            <a:ext cx="1440" cy="126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Text Box 7"/>
          <p:cNvSpPr/>
          <p:nvPr/>
        </p:nvSpPr>
        <p:spPr>
          <a:xfrm>
            <a:off x="3200400" y="3086280"/>
            <a:ext cx="50245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  <a:ea typeface="Arial Unicode MS"/>
              </a:rPr>
              <a:t>Inseneriasjandus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Arial Unicode MS"/>
              </a:rPr>
              <a:t>: teha kõike lihtsamalt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õtlemisviisidest: arvutitead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38080" y="182520"/>
            <a:ext cx="7848720" cy="757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Matemaatiline arvutiteadu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lgebra eriharu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rvutatavu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eeruku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raktilisem arvutiteadu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lgoritmik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erifitseerimine, järelduste automatiseerimin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Õppimin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eeled ja kompilaator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rüpto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Veel praktilisem arvutiteadu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ndmebaaside teooria ja tehnoloogi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ailisüsteemide 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rvutigraafika 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õrgusüsteemide 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74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375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õtlemisviisidest: kommertsrakendus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38080" y="-720720"/>
            <a:ext cx="7848720" cy="852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Laiatarberakenduse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psüsteemid, draiverid jm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kstiredaktorid, brauserid, epost jne 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Üldised võrgurakendused: google, youtube, skype, ..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ängu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gasugu utiliid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grammeerimisvahend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ao, raamatupidamissüsteemide jms tooriku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Erirakenduse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angarakendused, telekomirakendused jne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Reaalsed lao- ja tellimissüsteem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irma andmebaas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irma süsteemide sidumin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79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380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esti ülikoolikoolkonna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698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jaloos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TÜ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ajandusteaduskon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lektrooniku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überneetika instituut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TK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, pärit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3184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TÜ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3184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tu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3184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ttevõtte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3184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artu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tatistiku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rvutusmeetodite teoreetiku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uud matemaatiku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84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385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rsuse materjalid ja töö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695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rsusel </a:t>
            </a: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ei ole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htegi konkreetset õpikut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Kõik kursuse materjalid ja informatsioon on sellel lehel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 algn="ctr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Bitstream Vera Sans"/>
              </a:rPr>
              <a:t>http://lambda.ee/wiki/Sissejuhatus_infotehnoloogiasse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 algn="ctr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engumaterjale on nii eesti- kui ingliskeelseid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isaks otsestele loengumaterjalidele on võrgus antud ka muud loengu teema omandamiseks vajalikud materjalid, enamasti ingliskeelsed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letavaid detaile saab kuulda ainult loengus käies. Iseõppimine on teoreetiliselt võimalik, kuid on raske ja ajamahukas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rsuse praktiliste töödena (arvutil) kasutame peamiselt David Ecki praktikumide osi ja tarkvara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rsuse muud kohustuslikud tööd on lihtsalt lugemisülesanded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5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76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sialgu soovitav kirjand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752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Soovit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vad igapäevaselt loetavad lingid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ews.ycombinator.com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ww.reddit.com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(vali sobivad alamredditid!)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3000"/>
              </a:lnSpc>
              <a:spcBef>
                <a:spcPts val="400"/>
              </a:spcBef>
              <a:buNone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Soovitavad regulaarselt loetavad lingid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ww.slashdot.org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www.engadget.com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ww.news.com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3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Kirjandu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aul Grahami esseed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ew Hacker’s Dictionary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oogika: mõtlemisest tõestamiseni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e Cathedral and the Bazaar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Gnu manifest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0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81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rsuse loengukav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718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Vaata:</a:t>
            </a: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Bitstream Vera Sans"/>
              </a:rPr>
              <a:t>http://lambda.ee/wiki/Sissejuhatus_infotehnoloogiasse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5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86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Terminoloogi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0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91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93" name="Picture 1" descr=""/>
          <p:cNvPicPr/>
          <p:nvPr/>
        </p:nvPicPr>
        <p:blipFill>
          <a:blip r:embed="rId1"/>
          <a:stretch/>
        </p:blipFill>
        <p:spPr>
          <a:xfrm>
            <a:off x="2286000" y="838080"/>
            <a:ext cx="4334040" cy="5781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nel</dc:creator>
  <dc:description/>
  <dc:language>en-US</dc:language>
  <cp:lastModifiedBy>Tanel Tammet</cp:lastModifiedBy>
  <dcterms:modified xsi:type="dcterms:W3CDTF">2019-09-02T08:04:06Z</dcterms:modified>
  <cp:revision>34</cp:revision>
  <dc:subject/>
  <dc:title> </dc:title>
</cp:coreProperties>
</file>